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957-3BA7-4203-820B-5B3A35DD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3DB-F122-4840-B8F2-50276E1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A22-40D9-49F4-915A-2E06E046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0F9-C544-435C-8D6D-D012A3FD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2192-5BF0-4EE8-BAD6-EDE2DCC7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D860-A8E7-4E90-9C4F-A8D3C03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017-6E6B-4667-A55F-9A5F5D4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E696-BCDA-4CAC-8270-2ED2D32D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287-4B1C-4187-972C-FDDF9E4A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EEA3-CB7E-4311-9B5B-9910BEC0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3A27-B6E1-40FA-9BAE-8BC1A06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CCE-6A97-4D0D-8DB7-E44D3A1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DD42-3D5F-47C9-925F-670E70C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538F-2989-497D-8D58-64DB876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E826-4CFA-44ED-B897-0B93D4AA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6EA-518D-47DA-926D-BF2B3421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1923-9B5F-4115-8454-3CDF4E7B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908-BDA1-4E2F-BE20-86BC23F1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A30-080C-4086-B9E8-46A86C24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CA4-40ED-416F-A2FB-1DADDC95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56A-3360-486A-9F9D-F9D5156E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4B3-621C-4BE9-B460-B72FD10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5C7-3995-4101-BE53-98F8468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03D-E85E-44E5-A476-1F91F63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893-6EC8-45A2-AD7C-6431253B1317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787-F771-43B8-A40A-FA3E2C0DCF5E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ing Hills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umeracy with Esther H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partner’s experience on a post-it note along with their name and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ossible groupings at Level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I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k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or / Sk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09T03:01:14Z</dcterms:modified>
  <cp:revision>57</cp:revision>
  <dc:subject/>
  <dc:title>Enhancing literacy and numeracy outcomes through eLearning</dc:title>
</cp:coreProperties>
</file>